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15359-EB1F-49AA-916A-DDC99038B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E3363-592A-441E-AA31-454AA26B9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1B85C-9F84-42B4-A0DF-37EF188AC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DE937-099B-40C0-A233-8282F8F54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AEDB2-8307-4482-BF19-BF644C0E8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7F9B9-1891-485A-BF6F-2DCF16BD3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EC94D-C909-4FD2-A5C8-DD9A9C635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A0C83-2FA5-4D63-B278-B3A0D9367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7CC62-7C45-4B8A-BEE5-774202E8E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F0D34-1250-44C3-87D2-DC6FDD5BE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2500D-8B80-48A7-85D3-ED6440672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207BB-34C7-449C-92A0-C8DDF3F2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40B92-7AFE-42CF-9DB3-5323A7AA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AE906-EEFD-44DD-8774-CE5FC19D6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9253F-83D7-42B4-BA5F-2F81EB9D9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3ECBA-B3FE-4634-8512-7C24AC46A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007AE-0332-4A48-BE91-A26494ADC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1927CE-0A04-4BCC-A358-8CCBF7498C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C3D48-4554-42A4-BC78-44853061B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45C58D-F44C-4801-B4C3-66788C9576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685D0-F926-4195-A970-02550633C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1BC33-FBB7-4C8A-B911-7FA50FE15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48316-15D6-40A6-9C46-F38F5E712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80F91C-7C3A-42E6-AA4E-F2EE5DEC1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33C80-A86E-4C32-A42A-418FEEB20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CDBD6-D337-411E-82DA-D470D58CC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BF661-2FD7-4F0A-92E3-C92DCACA3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C234D9-C0DC-46A0-9B34-0BA90C90A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5C39E6-420F-4A87-BDCC-F78A14CDD9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CD3336-0F59-420B-9F67-458AE14E02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DB9F7D-B66F-4508-80EC-E4F14FA68B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E69FD6-1B83-4E41-95C6-35D7DEAA2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294CA-3D98-41F8-B670-3201E9B69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D5C5-35F1-4843-9AB1-B6EFF4F2F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47991-FC29-4AF1-9759-8BE933E25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2D57D-BD19-482E-B232-00D0D0DEF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4AFB5-24F6-4F09-B9E7-2A3BCD990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61976-2DFA-42B3-9049-7895866A4F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70EFE-408F-4C90-89A5-F526054AE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E340C-B836-49BF-9B12-03564860D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8DE90-CA93-40E9-9B3C-B26C1B472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B048E-0187-464D-8C0E-1CDC25B6F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2B3FC4-5DFC-47A9-9DA5-0F45FE88AC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6376A-F3A4-41F1-A1BC-B5506DC1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3415A-CA81-4FAC-A351-174466DD3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2A6C-122F-4328-992A-9B67D365F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3FC49-A264-40C6-99E5-9E425FD24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B3B8-DA5F-4DA8-A93E-F5EFF8BDD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7D551-2E7D-412E-AE82-CA0969229E37}"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8F8D3-DFA1-4286-8715-FAA5A0B73C76}"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00A0E-740C-4298-8418-5A6E31322E75}"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9AA98-73D1-4FDF-9553-CAB67D28EA06}"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6" name=""/>
          <p:cNvSpPr txBox="1"/>
          <p:nvPr/>
        </p:nvSpPr>
        <p:spPr>
          <a:xfrm>
            <a:off x="0" y="1847520"/>
            <a:ext cx="9144000" cy="50101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Droit du travail </a:t>
            </a:r>
            <a:endParaRPr b="0" lang="en-US" sz="44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   </a:t>
            </a:r>
            <a:r>
              <a:rPr b="1" lang="fr-FR" sz="3600" spc="-1" strike="noStrike">
                <a:solidFill>
                  <a:srgbClr val="000000"/>
                </a:solidFill>
                <a:latin typeface="Times New Roman"/>
                <a:ea typeface="Times New Roman"/>
              </a:rPr>
              <a:t>Séance 5</a:t>
            </a:r>
            <a:endParaRPr b="0" lang="en-US" sz="3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Kamal LAGTATI </a:t>
            </a:r>
            <a:br>
              <a:rPr sz="1600"/>
            </a:br>
            <a:r>
              <a:rPr b="1" lang="fr-FR" sz="1600" spc="-1" strike="noStrike">
                <a:solidFill>
                  <a:srgbClr val="000000"/>
                </a:solidFill>
                <a:latin typeface="Times New Roman"/>
                <a:ea typeface="Times New Roman"/>
              </a:rPr>
              <a:t>Enseignant chercheur </a:t>
            </a:r>
            <a:br>
              <a:rPr sz="1600"/>
            </a:br>
            <a:r>
              <a:rPr b="1" lang="fr-FR" sz="1600" spc="-1" strike="noStrike">
                <a:solidFill>
                  <a:srgbClr val="000000"/>
                </a:solidFill>
                <a:latin typeface="Times New Roman"/>
                <a:ea typeface="Times New Roman"/>
              </a:rPr>
              <a:t>EST Lâayoune </a:t>
            </a:r>
            <a:endParaRPr b="0" lang="en-US" sz="1600" spc="-1" strike="noStrike">
              <a:solidFill>
                <a:srgbClr val="000000"/>
              </a:solidFill>
              <a:latin typeface="Constantia"/>
            </a:endParaRPr>
          </a:p>
        </p:txBody>
      </p:sp>
      <p:pic>
        <p:nvPicPr>
          <p:cNvPr id="197"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Séance 5</a:t>
            </a:r>
            <a:endParaRPr b="0" lang="en-US" sz="2600" spc="-1" strike="noStrike">
              <a:solidFill>
                <a:srgbClr val="000000"/>
              </a:solidFill>
              <a:latin typeface="Constant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nstantia"/>
              </a:rPr>
              <a:t>Hygiène, Sécurité, conditions de travail et services médicaux de l’entreprise</a:t>
            </a:r>
            <a:endParaRPr b="0" lang="en-US" sz="44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pic>
        <p:nvPicPr>
          <p:cNvPr id="200"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765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4617b"/>
                </a:solidFill>
                <a:latin typeface="Calibri"/>
              </a:rPr>
              <a:t>Hygiène et sécurité des salariés </a:t>
            </a:r>
            <a:endParaRPr b="0" lang="en-US" sz="4200" spc="-1" strike="noStrike">
              <a:solidFill>
                <a:srgbClr val="04617b"/>
              </a:solidFill>
              <a:latin typeface="Calibri"/>
            </a:endParaRPr>
          </a:p>
        </p:txBody>
      </p:sp>
      <p:sp>
        <p:nvSpPr>
          <p:cNvPr id="202" name=""/>
          <p:cNvSpPr txBox="1"/>
          <p:nvPr/>
        </p:nvSpPr>
        <p:spPr>
          <a:xfrm>
            <a:off x="250920" y="1328400"/>
            <a:ext cx="8686800" cy="5559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ea typeface="Times New Roman"/>
              </a:rPr>
              <a:t> </a:t>
            </a:r>
            <a:r>
              <a:rPr b="0" lang="fr-FR" sz="2400" spc="-1" strike="noStrike" u="sng">
                <a:solidFill>
                  <a:srgbClr val="000000"/>
                </a:solidFill>
                <a:uFillTx/>
                <a:latin typeface="Times New Roman"/>
                <a:ea typeface="Times New Roman"/>
              </a:rPr>
              <a:t>b- Le conseil de la médecine de travail et de la prévention contre les risques</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une institution créée auprès de l’autorité gouvernementale chargée de travail dont les fonctions est de faire des propositions et des avis en vue de promouvoir l’inspecteur médicale du travail, les services médicaux du travail et tout ce qui a trait à la protection de la santé la sécurité professionnelle et la prévention contre les accidents du travail et les maladies professionnelles.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conseil est présidé par le ministre chargé de l’emploi ou son représentant. Il se compose de deux représentants de l’administration, des organisation professionnelles des employeurs et des organisations syndicales les plus représentatives de salarié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4" name=""/>
          <p:cNvSpPr txBox="1"/>
          <p:nvPr/>
        </p:nvSpPr>
        <p:spPr>
          <a:xfrm>
            <a:off x="457200" y="1387440"/>
            <a:ext cx="8229600" cy="51976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Régime des accidents de travail </a:t>
            </a:r>
            <a:r>
              <a:rPr b="0" lang="fr-FR" sz="2600" spc="-1" strike="noStrike">
                <a:solidFill>
                  <a:srgbClr val="000000"/>
                </a:solidFill>
                <a:latin typeface="Calibri"/>
              </a:rPr>
              <a:t>: </a:t>
            </a:r>
            <a:endParaRPr b="0" lang="en-US" sz="2600" spc="-1" strike="noStrike">
              <a:solidFill>
                <a:srgbClr val="000000"/>
              </a:solidFill>
              <a:latin typeface="Constanti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Définition</a:t>
            </a:r>
            <a:r>
              <a:rPr b="0" lang="fr-FR" sz="2600" spc="-1" strike="noStrike">
                <a:solidFill>
                  <a:srgbClr val="000000"/>
                </a:solidFill>
                <a:latin typeface="Calibri"/>
              </a:rPr>
              <a:t> : </a:t>
            </a:r>
            <a:endParaRPr b="0" lang="en-US" sz="2600" spc="-1" strike="noStrike">
              <a:solidFill>
                <a:srgbClr val="000000"/>
              </a:solidFill>
              <a:latin typeface="Constant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ea typeface="Times New Roman"/>
              </a:rPr>
              <a:t>L’accident de travail est tout accident survenu à un salarié par le fait ou à l’occasion du travail est considéré comme accident de travail.</a:t>
            </a:r>
            <a:endParaRPr b="0" lang="en-US" sz="2600" spc="-1" strike="noStrike">
              <a:solidFill>
                <a:srgbClr val="000000"/>
              </a:solidFill>
              <a:latin typeface="Constant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ea typeface="Times New Roman"/>
              </a:rPr>
              <a:t>Est assimilé à un accident de travail l’accident survenu à un travailleur pendant </a:t>
            </a:r>
            <a:r>
              <a:rPr b="1" lang="fr-FR" sz="2600" spc="-1" strike="noStrike">
                <a:solidFill>
                  <a:srgbClr val="ff0000"/>
                </a:solidFill>
                <a:latin typeface="Calibri"/>
                <a:ea typeface="Times New Roman"/>
              </a:rPr>
              <a:t>le trajet d’aller ou de retour</a:t>
            </a:r>
            <a:r>
              <a:rPr b="0" lang="fr-FR" sz="2600" spc="-1" strike="noStrike">
                <a:solidFill>
                  <a:srgbClr val="000000"/>
                </a:solidFill>
                <a:latin typeface="Calibri"/>
                <a:ea typeface="Times New Roman"/>
              </a:rPr>
              <a:t>, entre le lieu de travail et une résidence présentant un caractère de stabilité ou bien où le travailleur prend habituellement ses repas. </a:t>
            </a:r>
            <a:endParaRPr b="0" lang="en-US" sz="2600" spc="-1" strike="noStrike">
              <a:solidFill>
                <a:srgbClr val="000000"/>
              </a:solidFill>
              <a:latin typeface="Constanti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6" name=""/>
          <p:cNvSpPr txBox="1"/>
          <p:nvPr/>
        </p:nvSpPr>
        <p:spPr>
          <a:xfrm>
            <a:off x="457200" y="1387440"/>
            <a:ext cx="8229600" cy="54705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000000"/>
                </a:solidFill>
                <a:uFillTx/>
                <a:latin typeface="Calibri"/>
              </a:rPr>
              <a:t>Formalités </a:t>
            </a:r>
            <a:r>
              <a:rPr b="0" lang="fr-FR" sz="2200" spc="-1" strike="noStrike">
                <a:solidFill>
                  <a:srgbClr val="000000"/>
                </a:solidFill>
                <a:latin typeface="Calibri"/>
              </a:rPr>
              <a:t>:</a:t>
            </a:r>
            <a:endParaRPr b="0" lang="en-US" sz="2200" spc="-1" strike="noStrike">
              <a:solidFill>
                <a:srgbClr val="000000"/>
              </a:solidFill>
              <a:latin typeface="Constanti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1- Le salarié victime de l’accident est tenu d’informer son employeur dans la journée ou au plus tard dans les 24h. </a:t>
            </a:r>
            <a:endParaRPr b="0" lang="en-US" sz="2200" spc="-1" strike="noStrike">
              <a:solidFill>
                <a:srgbClr val="000000"/>
              </a:solidFill>
              <a:latin typeface="Constanti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2- L’employeur est tenu d’informer l’autorité municipale dans les 48h. </a:t>
            </a:r>
            <a:endParaRPr b="0" lang="en-US" sz="2200" spc="-1" strike="noStrike">
              <a:solidFill>
                <a:srgbClr val="000000"/>
              </a:solidFill>
              <a:latin typeface="Constanti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 Si dans 15 j le salarié n’a toujours pas repris </a:t>
            </a:r>
            <a:r>
              <a:rPr b="0" lang="fr-FR" sz="2400" spc="-1" strike="noStrike">
                <a:solidFill>
                  <a:srgbClr val="000000"/>
                </a:solidFill>
                <a:latin typeface="Calibri"/>
              </a:rPr>
              <a:t>son travail l’employeur doit déposer au bureau de l’autorité un certificat dit « certificat initial » indiquant l’état de la victime </a:t>
            </a:r>
            <a:endParaRPr b="0" lang="en-US" sz="2400" spc="-1" strike="noStrike">
              <a:solidFill>
                <a:srgbClr val="000000"/>
              </a:solidFill>
              <a:latin typeface="Constanti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 </a:t>
            </a:r>
            <a:r>
              <a:rPr b="0" lang="fr-FR" sz="2400" spc="-1" strike="noStrike">
                <a:solidFill>
                  <a:srgbClr val="000000"/>
                </a:solidFill>
                <a:latin typeface="Calibri"/>
              </a:rPr>
              <a:t>Après guérison, l’employeur est tenu de déposer dans les 48 h auprès du même bureau un certificat médical indiquant les conséquences définitives </a:t>
            </a:r>
            <a:endParaRPr b="0" lang="en-US" sz="2400" spc="-1" strike="noStrike">
              <a:solidFill>
                <a:srgbClr val="000000"/>
              </a:solidFill>
              <a:latin typeface="Constantia"/>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cas de décès le certificat constatant le décès est joint à la déclaration et remis au bureau dans les 48h</a:t>
            </a:r>
            <a:r>
              <a:rPr b="0" lang="fr-FR" sz="2000" spc="-1" strike="noStrike">
                <a:solidFill>
                  <a:srgbClr val="000000"/>
                </a:solidFill>
                <a:latin typeface="Calibri"/>
              </a:rPr>
              <a:t>. </a:t>
            </a:r>
            <a:endParaRPr b="0" lang="en-US" sz="2000" spc="-1" strike="noStrike">
              <a:solidFill>
                <a:srgbClr val="000000"/>
              </a:solidFill>
              <a:latin typeface="Constanti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8" name=""/>
          <p:cNvSpPr txBox="1"/>
          <p:nvPr/>
        </p:nvSpPr>
        <p:spPr>
          <a:xfrm>
            <a:off x="457200" y="1387440"/>
            <a:ext cx="8229600" cy="547056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5- Les copies des certificats médicaux doivent être remises par l’employeur à son assureur (assurance obligatoire). </a:t>
            </a:r>
            <a:endParaRPr b="0" lang="en-US" sz="22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6- L’autorité municipale est tenue de transmettre au TPI du ressort de l’accident la déclaration accompagnée du certificat médical.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Calibri"/>
              </a:rPr>
              <a:t>Indemnisation</a:t>
            </a:r>
            <a:r>
              <a:rPr b="1" lang="fr-FR" sz="2400" spc="-1" strike="noStrike">
                <a:solidFill>
                  <a:srgbClr val="000000"/>
                </a:solidFill>
                <a:latin typeface="Calibri"/>
              </a:rPr>
              <a:t> </a:t>
            </a:r>
            <a:r>
              <a:rPr b="0" lang="fr-FR" sz="2400" spc="-1" strike="noStrike">
                <a:solidFill>
                  <a:srgbClr val="000000"/>
                </a:solidFill>
                <a:latin typeface="Calibri"/>
              </a:rPr>
              <a:t>: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alarié victime d’un accident de travail a droit à une indemnité́ journalière pendant la période d’incapacité temporaire comprise entre le jour de l’accident et la date de sa guérison. Une indemnité́ égale à la moitié les 28 premiers jours et 2/3 à partir du 29ème.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0" name=""/>
          <p:cNvSpPr txBox="1"/>
          <p:nvPr/>
        </p:nvSpPr>
        <p:spPr>
          <a:xfrm>
            <a:off x="457200" y="1387440"/>
            <a:ext cx="8229600" cy="547056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000000"/>
                </a:solidFill>
                <a:uFillTx/>
                <a:latin typeface="Calibri"/>
              </a:rPr>
              <a:t>Soins, contrôle médical et autres </a:t>
            </a:r>
            <a:r>
              <a:rPr b="0" lang="fr-FR" sz="2200" spc="-1" strike="noStrike">
                <a:solidFill>
                  <a:srgbClr val="000000"/>
                </a:solidFill>
                <a:latin typeface="Calibri"/>
              </a:rPr>
              <a:t>:</a:t>
            </a:r>
            <a:endParaRPr b="0" lang="en-US" sz="2200" spc="-1" strike="noStrike">
              <a:solidFill>
                <a:srgbClr val="000000"/>
              </a:solidFill>
              <a:latin typeface="Constanti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salarié victime d’un accident du travail a droit :</a:t>
            </a:r>
            <a:endParaRPr b="0" lang="en-US" sz="22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 au paiement des frais d’hospitalisation, des frais médicaux, chirurgicaux et pharmaceutiques.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l’accident est mortel, les ayants droit peuvent prétendre au versement des frais funéraires.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2- à la réparation et le renouvellement des appareils de prothèse ou d’orthopédie que l’accident rend nécessaire.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aux frais de transport pour se rendre à l’établissement hospitalier afin d’y subir un contrôle médical.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2" name=""/>
          <p:cNvSpPr txBox="1"/>
          <p:nvPr/>
        </p:nvSpPr>
        <p:spPr>
          <a:xfrm>
            <a:off x="457200" y="1387440"/>
            <a:ext cx="8229600" cy="5470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descendants :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nte est égale à 15 % pour un enfant, 30 % pour deux enfants et 40% pour trois enfants. Il y a une augmentation de 10 % pour chacun des autres enfants.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les enfants sont orphelins de père et de mère, la rente de chacun d’eux est de 20 %.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ascendants :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nte de chacun d’eux est égale à 10% du salaire de la victime sans que le total des rentes allouées à l’ensemble des ascendants puisse dépasser 30%.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4" name=""/>
          <p:cNvSpPr txBox="1"/>
          <p:nvPr/>
        </p:nvSpPr>
        <p:spPr>
          <a:xfrm>
            <a:off x="0" y="1206000"/>
            <a:ext cx="8686800" cy="5875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rPr>
              <a:t>La procédure</a:t>
            </a:r>
            <a:r>
              <a:rPr b="0" lang="fr-FR" sz="2400" spc="-1" strike="noStrike">
                <a:solidFill>
                  <a:srgbClr val="000000"/>
                </a:solidFill>
                <a:latin typeface="Calibri"/>
              </a:rPr>
              <a:t> :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 Le juge qui reçoit le dossier procède à une enquête pour constater :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identité́ des parties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existence des lésions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existence d’accidents antérieurs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2- Après clôture de l’enquête, le juge convoque les parties (ayants droit, employeur, assureur, etc.) en vue de conciliation et attribution de la rente.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Si l’accord n’aboutit pas, l’affaire est portée de plein droit devant le Tribunal de première instance.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rPr>
              <a:t>Révision</a:t>
            </a:r>
            <a:r>
              <a:rPr b="0" lang="fr-FR" sz="2400" spc="-1" strike="noStrike">
                <a:solidFill>
                  <a:srgbClr val="000000"/>
                </a:solidFill>
                <a:latin typeface="Calibri"/>
              </a:rPr>
              <a:t> : </a:t>
            </a:r>
            <a:endParaRPr b="0" lang="en-US" sz="24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s 5 ans en cas d’aggravation ou d’atténuation de l’infirmité il peut être procédé́ à une révision </a:t>
            </a:r>
            <a:endParaRPr b="0" lang="en-US" sz="2400" spc="-1" strike="noStrike">
              <a:solidFill>
                <a:srgbClr val="000000"/>
              </a:solidFill>
              <a:latin typeface="Constantia"/>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18:50:53Z</dcterms:created>
  <dc:creator>Houda Sargeane</dc:creator>
  <dc:description/>
  <dc:language>en-US</dc:language>
  <cp:lastModifiedBy>USER</cp:lastModifiedBy>
  <dcterms:modified xsi:type="dcterms:W3CDTF">2020-04-11T16:57:10Z</dcterms:modified>
  <cp:revision>172</cp:revision>
  <dc:subject/>
  <dc:title>Définition </dc:title>
</cp:coreProperties>
</file>